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C16-5515-46E0-AA62-68FA0EE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B8E-777A-4740-84DC-73981B26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A6F-1E27-4CD1-8687-86D5521D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160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37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160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37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800-10FE-44E5-9C5A-6A17BBCE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797E-63EE-4753-BA9F-4375F067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3C41-9A92-47E6-8CFE-195B3F97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18DA-23CF-4174-8F22-0B5BA2D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07D9-7179-485E-BE32-D2AEC39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F02A-9262-451B-8FA0-E6ADEF6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57150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72F-8917-4400-B7E2-AFA0A2A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09D0-9970-4D75-A8E0-210585B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D7C-BE1C-4F26-9443-62A1210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FD79-3C5E-4977-8540-91ED9A6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6ADC-9A1C-4AA6-93F7-8849D36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073-AD51-4D44-95CD-40A22DE8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4254-E96E-4424-A7AA-ED8C0C18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4160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3720" y="266652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4160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73720" y="306468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6BF-5675-4E8F-B66C-0DCCA08F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7E6-ACFA-4DFC-9004-848AF070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867-A2F5-4904-AED7-DC17EAC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F40-5646-4115-96A2-529D5B4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57150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20E-7764-4A4C-A64A-38F291EB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FE1-9F58-44DD-A9BB-D42A5EC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7360" y="306468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2D7-ACD7-458F-AF99-1C8503D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7360" y="266652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06468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023-0E93-4E98-9C8B-2837CDA5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4E9-C032-4C98-835F-DAAA60CC88C7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1A6-E003-408A-8685-FF198D95D3F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12:38Z</dcterms:created>
  <dc:creator>Bonnie Ritchey</dc:creator>
  <dc:description/>
  <dc:language>en-US</dc:language>
  <cp:lastModifiedBy>Bonnie Ritchey</cp:lastModifiedBy>
  <dcterms:modified xsi:type="dcterms:W3CDTF">2004-05-21T03:12:5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31033</vt:lpwstr>
  </property>
</Properties>
</file>